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F95-22A9-4148-9FD0-0E9AB766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891-7268-4CF9-A674-7A511F95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5AA-98BF-431B-9BC5-7BEC44D1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1DE-6ED4-4701-B4A8-AFD8A0B8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C066-1E5F-47D5-9454-F2DC00AA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6F41-2C49-4B74-8FB8-1C9DBD6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B2B0-EA0D-40A9-BEDD-287B9E53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AB02-3C76-487E-89AD-D252E367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2DF0-E1BD-471F-8C57-4B4AAAD5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8B00-175B-4A5F-9AC7-7829FA41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A32D-3D0D-4C66-BE12-90092E6A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25A-84D9-4FB7-830F-B8D63E0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701F-BEC9-47C3-8062-88D0A7E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FBF0-78E5-40E8-BB7F-4B4B1B7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4ECA-402B-4418-A5C2-08FC4E25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56D7-EFF3-480C-A93F-7D7B9F71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A396-DAD8-44F4-931B-909C7C50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A12C-97CA-46F0-8F38-15671FD7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30B7-5995-4B3A-B089-B6D4A5A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9643-BA7B-4CAF-A2CD-F088AE79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C25F2-AA14-4501-9E86-2F37B734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9FFE-B5FC-435A-86D1-167F5C5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51C-A7B5-4D24-92E5-EC0AA38C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64B8-79AB-4301-AF93-3B2B61D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4A42-C2D0-4D01-A0C1-4FB0B6A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4910D-B356-4E8B-9443-0FE2B9D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63AC-06D7-467F-8FC3-62B1F56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EC5D-6C41-4221-81E0-AC1A0213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18A3-ED5D-40D1-8241-E66057A6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135D-9374-415A-BD86-136B5B3E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4151-B8C5-4277-BA0B-8EA99517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1619-061B-4B3F-AE9F-7011780B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0AFE-DFE2-462E-819C-02060220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585-914A-4B7A-88FE-F2FC7D4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6A4F-02DF-4F6F-BBB9-09111DBA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37FC-A29E-44D6-A0D8-3CA4D2FC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1B7B-1860-4AD4-BC37-239A4130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FF7F-3966-4E3B-BF8A-4DD0551C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2B97-652B-486D-8172-23407B6E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DCD12-104A-42A9-8316-1C1CC87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378D-6FAF-4E05-909C-95EE158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DCD6-F2B5-4868-8583-33B44FF7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5791A-FB35-4BC6-99F6-8F20D683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3F23-9D59-4DCD-9A47-79E79496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98C-BB75-4D07-B9A9-1CE2D40C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86BF-08C1-49B0-85DF-44604781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A60F1-1E49-4417-B2A1-511D79F8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2EEE5-210F-4C1F-B2BF-63C798BE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138A-C265-4579-B059-6113474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DF2A3-6018-46BB-A739-721C36C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D575-85EC-42E2-ABD5-5F01213F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4665-5644-499D-813F-6F4AB5A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339B-7B47-4F25-8FF8-F9A22736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DF1C-8613-4184-A2E4-E6D7D91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554D-DEF3-4D86-8F55-E0052D30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F6C-D08E-471F-B4B3-5FDEC093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43B2C-EE6A-45A2-936A-2272395E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D34-9007-4C58-8C3D-3B1369C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E9C7-4FD8-4FF9-B7BD-E6F9EDF2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CEC-7EAA-4D0C-AB90-3C490EC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DDB-B226-4D4F-AA79-B9162F5B63D5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E3D-3F13-447F-923E-E13296A90433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93DF-C102-46DC-A770-DA7DDE8F8574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4F9D-FF83-4453-8F3A-EC88C0C534DD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575"/>
              </a:spcBef>
              <a:buClr>
                <a:srgbClr val="ffaa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5FD4-3C6E-4F30-8345-CF8959466B4E}" type="slidenum">
              <a:rPr b="0" lang="en-US" sz="1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dn.graphicsfactory.com/clip-art/image_files/image/8/1329298-see.gif&amp;imgrefurl=http://www.graphicsfactory.com/Clip_Art/People/Children/see_377011.html&amp;h=300&amp;w=300&amp;sz=24&amp;tbnid=5HxdI5jy82zTwM:&amp;tbnh=90&amp;tbnw=90&amp;prev=/search?q=child+reading+book&amp;tbm=isch&amp;tbo=u&amp;zoom=1&amp;q=child+reading+book&amp;usg=__HTXF11b62tp7AOjJo3sebZM2O1Y=&amp;docid=_Y-iOEF_VbpKcM&amp;sa=X&amp;ei=klZaUMa7DsPF0QHMlYCQCg&amp;ved=0CDQQ9QEwAw&amp;dur=78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ld+reading&amp;um=1&amp;hl=en&amp;sa=N&amp;rlz=1T4ADRA_enUS425US425&amp;biw=1223&amp;bih=494&amp;tbm=isch&amp;tbnid=VFpLd8Q-8vso6M:&amp;imgrefurl=http://suite101.com/article/your-childs-reading-level-is-irrelevant-a355850&amp;docid=2D8OXQhE2_UE0M&amp;imgurl=http://images.suite101.com/3044381_com_child_reading_commons_.jpg&amp;w=800&amp;h=523&amp;ei=zG9aUPjVMO220QHW2oC4BA&amp;zoom=1&amp;iact=hc&amp;vpx=194&amp;vpy=151&amp;dur=1986&amp;hovh=181&amp;hovw=278&amp;tx=148&amp;ty=119&amp;sig=102435199160849555345&amp;page=2&amp;tbnh=136&amp;tbnw=167&amp;start=13&amp;ndsp=21&amp;ved=1t:429,r:8,s:13,i:21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ld+reading&amp;um=1&amp;hl=en&amp;sa=N&amp;rlz=1T4ADRA_enUS425US425&amp;biw=1223&amp;bih=494&amp;tbm=isch&amp;tbnid=pD6nGVFz8TKiZM:&amp;imgrefurl=http://jonathanshipley.blogspot.com/2011/06/seven-tips-to-keep-kids-reading-this.html&amp;docid=M3D8aTm_GdnufM&amp;imgurl=http://3.bp.blogspot.com/-n9WgMHxawSk/TeZA-Q0dFfI/AAAAAAAAMPQ/I3XWXHndaoA/s1600/kid-reading.jpg&amp;w=675&amp;h=404&amp;ei=zG9aUPjVMO220QHW2oC4BA&amp;zoom=1&amp;iact=hc&amp;vpx=517&amp;vpy=206&amp;dur=958&amp;hovh=174&amp;hovw=290&amp;tx=157&amp;ty=87&amp;sig=102435199160849555345&amp;page=5&amp;tbnh=142&amp;tbnw=189&amp;start=72&amp;ndsp=18&amp;ved=1t:429,r:14,s:72,i:41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xC-Qo_8GiU" TargetMode="External"/><Relationship Id="rId2" Type="http://schemas.openxmlformats.org/officeDocument/2006/relationships/hyperlink" Target="http://www.vdoe.whro.org/elementary_reading/ThinkAloud1-20-2010_F8_FastStart_512k.swf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b/benjaminfr133951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Morning Do Now!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hare your “ineffective” instructional situ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Class reflect in your Literacy Lo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Let’s share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http://t1.gstatic.com/images?q=tbn:ANd9GcT2AXoOy1OGxtfaBPy2JWSiF1kihqv-3PJezhMHR53MHj8EQf82VulKlxsDIg"/>
          <p:cNvPicPr/>
          <p:nvPr/>
        </p:nvPicPr>
        <p:blipFill>
          <a:blip r:embed="rId1"/>
          <a:stretch/>
        </p:blipFill>
        <p:spPr>
          <a:xfrm>
            <a:off x="2743200" y="4572000"/>
            <a:ext cx="3505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g_hi" descr="https://encrypted-tbn1.google.com/images?q=tbn:ANd9GcStMda29KGjT5Sc2ss82ghG8nM5LO8d0uazSZyuB1ihtQ1SSe7oPg"/>
          <p:cNvPicPr/>
          <p:nvPr/>
        </p:nvPicPr>
        <p:blipFill>
          <a:blip r:embed="rId1"/>
          <a:stretch/>
        </p:blipFill>
        <p:spPr>
          <a:xfrm>
            <a:off x="6095880" y="358128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04920" y="1752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1 : Prewr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ose a topic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ider the purpo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dentify the genre the writing will tak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gage in rehearsal activities to gather ide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a graphic organizer to organize idea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2: Draf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rite a rough draf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wide spacing to leave room for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vising and edit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hasize ideas rather than mechanical correctnes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rk the writing as a “rough draft.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1608480" y="228600"/>
            <a:ext cx="547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The Writing Proces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600200" y="9144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ve stages that describe what students think and do as they writ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g_hi" descr="https://encrypted-tbn1.google.com/images?q=tbn:ANd9GcStMda29KGjT5Sc2ss82ghG8nM5LO8d0uazSZyuB1ihtQ1SSe7oPg"/>
          <p:cNvPicPr/>
          <p:nvPr/>
        </p:nvPicPr>
        <p:blipFill>
          <a:blip r:embed="rId1"/>
          <a:stretch/>
        </p:blipFill>
        <p:spPr>
          <a:xfrm>
            <a:off x="5410080" y="266688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"/>
          <p:cNvSpPr/>
          <p:nvPr/>
        </p:nvSpPr>
        <p:spPr>
          <a:xfrm>
            <a:off x="457200" y="-228600"/>
            <a:ext cx="8001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3: Revi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read the rough draf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ipate in writing group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ke substantive changes that reflect peers’ feedback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ference with the teach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4: Ed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ofread the revised draf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rrect mechanical err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ference with the teach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5: Publish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ke the final cop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are the writing with an appropriate audien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The Reading Process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380880" y="1219320"/>
            <a:ext cx="8458200" cy="52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oal=Comprehen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derstanding the text and being able to use it for its intended purpos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complex process involv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The Reading Proc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 stag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volve students in activities to teach, practice and apply fluency, vocabulary and comprehens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rg_hi" descr="http://t1.gstatic.com/images?q=tbn:ANd9GcQMBA3_8vouap1da1IntTb6G6ezfA8iHjGTzm-4afQ0ALnO5DfV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286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60948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1 : Prerea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tivate or build background knowledg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 related vocabular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 purpos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ke predict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roduce key vocabulary word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view the tex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2: Reading (See 5 Typ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 independently or with a partn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 with classmates and the teacher using shar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 guided read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en to the teacher read alou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ly reading strategies and skill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1828800" y="228600"/>
            <a:ext cx="52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The 5 Stages of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Reading Proces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rg_hi" descr="http://t3.gstatic.com/images?q=tbn:ANd9GcSKBuiEKjK5iEZbrvGxDXwUyD8wKFbn9vMYEm0twjeW8WHRl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514600"/>
            <a:ext cx="2876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609480" y="38088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3: Respond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rite in reading log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ipate in grand conversations or other discussi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4: Explo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y vocabulary word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ct sent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ine genre and other text factor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 about the autho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icipate in mini-lesson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Stage 5: Applying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truct project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 related book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the reading experien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rg_hi" descr="http://t3.gstatic.com/images?q=tbn:ANd9GcTUaFcqK4W7sbU5pm4gB1n3S0-b8KXmbllQiRjzT23VkI5Yxk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429000"/>
            <a:ext cx="2990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Types of Reading 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20574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Independent Read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tudents read a text on their own without teacher  scaffolding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Partner Read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wo students take turns as they read a text together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uided Reading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(Video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acher supports students as they apply reading strategies and skills to read a tex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Shared Read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acher reads aloud while students follow along in individual copie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Reading Aloud to Studen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acher reads aloud and actively involves students in the experience.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Try a Think-Aloud (see video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rg_hi" descr="http://t2.gstatic.com/images?q=tbn:ANd9GcSqoLyKa8J98hk6G-Ccx_53lc1g3VoeJkyb9g-owjHu6dVPYjrU"/>
          <p:cNvPicPr/>
          <p:nvPr/>
        </p:nvPicPr>
        <p:blipFill>
          <a:blip r:embed="rId3"/>
          <a:stretch/>
        </p:blipFill>
        <p:spPr>
          <a:xfrm>
            <a:off x="5943600" y="2286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The Reading Proces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Georgia"/>
              </a:rPr>
              <a:t>Think Aloud 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Georgia"/>
              </a:rPr>
              <a:t>Think Aloud 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Principal 4: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Effective Teachers Adopt a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Balanced Literacy Approach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 instructional program that consists of 9 componen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ading Literatu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ading Non-Fic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ew Literaci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iteracy Strategies and Skill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ral Languag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ocabular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mprehen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riting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374"/>
              </a:spcBef>
              <a:buClr>
                <a:srgbClr val="ffaaaa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pelling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buClr>
                <a:srgbClr val="ff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http://t2.gstatic.com/images?q=tbn:ANd9GcQoYIBdBUlR6SilD3q28qCxQCmYQz0Wpl35P5TwfSjSFKNwHppHZA"/>
          <p:cNvPicPr/>
          <p:nvPr/>
        </p:nvPicPr>
        <p:blipFill>
          <a:blip r:embed="rId1"/>
          <a:stretch/>
        </p:blipFill>
        <p:spPr>
          <a:xfrm>
            <a:off x="6553080" y="3505320"/>
            <a:ext cx="17337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Comprehensive View of Literacy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“A multi-vitamin”…a wining combination of best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teacher-centered and student-centered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learning theories.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378000" y="3260880"/>
            <a:ext cx="8242200" cy="467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t2.gstatic.com/images?q=tbn:ANd9GcSrk7HXd84qfvomyUMB7jjGzDqwxZjS8X5vfgPAqNlzhTX-Z10b"/>
          <p:cNvPicPr/>
          <p:nvPr/>
        </p:nvPicPr>
        <p:blipFill>
          <a:blip r:embed="rId2"/>
          <a:stretch/>
        </p:blipFill>
        <p:spPr>
          <a:xfrm>
            <a:off x="228600" y="472428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rincipal 5: 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Effective Teachers Scaffold When Teaching Students’ Reading and Writ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Skills &amp; Strategies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088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affolding: the support a teacher provides to students as they read and wri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kill: an automatic  processing behavior that stud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in reading and writing. Ex: distinguish fact from opin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ategies: A problem-solving behaviors/tactics that students use in reading and writing. 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x: predicting, summariz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Skill:                                                                           Strategies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Automatically                                                         Thoughtful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://t1.gstatic.com/images?q=tbn:ANd9GcT2AXoOy1OGxtfaBPy2JWSiF1kihqv-3PJezhMHR53MHj8EQf82VulKlxsDIg"/>
          <p:cNvPicPr/>
          <p:nvPr/>
        </p:nvPicPr>
        <p:blipFill>
          <a:blip r:embed="rId1"/>
          <a:stretch/>
        </p:blipFill>
        <p:spPr>
          <a:xfrm>
            <a:off x="2743200" y="4572000"/>
            <a:ext cx="3505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4 Levels of Scaffolding Support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igh               Modeled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Teachers mo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from more to l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ared   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as students assu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                                                     </a:t>
            </a:r>
            <a:r>
              <a:rPr b="0" lang="en-US" sz="2400" spc="-1" strike="noStrike">
                <a:solidFill>
                  <a:srgbClr val="558ed5"/>
                </a:solidFill>
                <a:latin typeface="Georgia"/>
              </a:rPr>
              <a:t>responsibility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uid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ow                  Independent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http://t1.gstatic.com/images?q=tbn:ANd9GcT2AXoOy1OGxtfaBPy2JWSiF1kihqv-3PJezhMHR53MHj8EQf82VulKlxsDIg"/>
          <p:cNvPicPr/>
          <p:nvPr/>
        </p:nvPicPr>
        <p:blipFill>
          <a:blip r:embed="rId1"/>
          <a:stretch/>
        </p:blipFill>
        <p:spPr>
          <a:xfrm>
            <a:off x="304920" y="5029200"/>
            <a:ext cx="838188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Down Arrow 4"/>
          <p:cNvSpPr/>
          <p:nvPr/>
        </p:nvSpPr>
        <p:spPr>
          <a:xfrm>
            <a:off x="2286000" y="1981080"/>
            <a:ext cx="484200" cy="281952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ff0000"/>
          </a:solidFill>
          <a:ln w="12600">
            <a:solidFill>
              <a:srgbClr val="b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058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Georgia"/>
              </a:rPr>
              <a:t>Class Activity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142640" y="2209680"/>
            <a:ext cx="6629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Let’s have some fun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Making Words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Georgia"/>
              </a:rPr>
              <a:t>Key Question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reading process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writing proces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are the basic principles for   planning and managing a literacy program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hapter 2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Reading and Writing Processes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  <p:pic>
        <p:nvPicPr>
          <p:cNvPr id="249" name="Picture 2" descr="http://t2.gstatic.com/images?q=tbn:ANd9GcQoYIBdBUlR6SilD3q28qCxQCmYQz0Wpl35P5TwfSjSFKNwHppHZA"/>
          <p:cNvPicPr/>
          <p:nvPr/>
        </p:nvPicPr>
        <p:blipFill>
          <a:blip r:embed="rId1"/>
          <a:stretch/>
        </p:blipFill>
        <p:spPr>
          <a:xfrm>
            <a:off x="7086600" y="3352680"/>
            <a:ext cx="1828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Reading and Writing Processes:</a:t>
            </a:r>
            <a:br>
              <a:rPr sz="3600"/>
            </a:b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A Reading-Writing Connection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2133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ading and writing are reciproc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are constructive (improve or further develop) meaning-making proces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ve comparable activities at each sta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grating instruction improves both reading and wri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ading habits and skills improve students’ ability to wr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ini-lesson: teachers provide explicit instruction on reading and writing skills and strateg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Either write something worth reading 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do something worth writing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Benjamin Franklin</a:t>
            </a:r>
            <a:br>
              <a:rPr sz="900"/>
            </a:br>
            <a:br>
              <a:rPr sz="7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1:01:42Z</dcterms:created>
  <dc:creator>Darlene</dc:creator>
  <dc:description/>
  <dc:language>en-US</dc:language>
  <cp:lastModifiedBy>Darlene</cp:lastModifiedBy>
  <dcterms:modified xsi:type="dcterms:W3CDTF">2012-09-28T14:02:44Z</dcterms:modified>
  <cp:revision>21</cp:revision>
  <dc:subject/>
  <dc:title>Chapter 2  Reading and Writing Processes</dc:title>
</cp:coreProperties>
</file>